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3E4-A480-4748-BC55-793F8EEE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43B-7CB5-4649-98A1-BB05B0A4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A233C-A82A-4B70-8AD2-BAE171AD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BFE11-DD0C-412B-BF20-E121EADE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37B3E-EE10-4DDD-A203-72E39A21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8FBB6-F0F0-4974-899A-A1EAC20E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4F404-C3F2-4DF9-82BC-82875BD4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86B65-1F8A-4B6E-BA23-FA8497CA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257E0-A6E1-4E32-ABE2-08CC02F3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13ACE-8342-4327-8AD0-39C35B67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9A51C-546D-4C6A-9660-B96185D9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7E14F-4F87-43D7-8096-4EBF2418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123-A79D-406D-868C-82AFEABC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D6A5D-21A2-4917-9390-81355A20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E21DB-2065-408C-8BBF-78DDE4B8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7BBD5-3B3E-4703-AAEF-A7AB964E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82107-7577-4241-872A-783A066C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86463-2F8E-4BA8-AE1B-8CFC57D7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CFF42-D8D5-48F4-8E3F-35943CFE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56447-AE14-454B-A3DE-4ABC8A2B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7F8DA-E029-4F93-B41C-85E72D60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E652B-8358-491F-B988-A9E2F551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803F5-D774-402B-B1BF-D6F824FA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AB7-381C-4FA1-97CF-10B1323A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C0EB4-050A-4C77-86B2-F36AFD31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6B1C1-076C-4679-8390-5D75E3B9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502F9-C86E-43FB-8BB8-636E9265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A4EB0-00D2-4B05-BA37-74C640AE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96F78-8968-4348-B229-331308B5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868D1-E3CE-4BCE-BD1C-2E9D796F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530B4-DAFB-4B59-93B2-04E6FF83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991A2-B078-401E-88C1-3DDB88E7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F5C02-A1E3-4726-9829-7EB55A19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8998D-EDF8-4727-B658-1BE54F8B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9202-0832-4840-AAE0-ED27CB6B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D8CC7-C326-4091-980A-AE7653B5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3BB87-C6E5-4C2E-B78D-2C6DFE22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B5AF7-D145-4777-BED1-D06536BB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7327A-22BE-4911-8F92-0CB2717D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E6975-D48B-4841-BE6C-B26F6088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CEE06-D526-4D0E-ABB7-F3AA7B2E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ADFCA-FA58-401A-BD35-854B9B6B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93B8F-730A-49AC-923F-D07181C9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36B99-391E-41B2-9106-D8883DDC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2B494-1FE3-401F-9ED4-189A3E6A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AC6E-66BB-48ED-84CC-22144EF2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8E0DD-D3BB-4200-8224-F178B746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C91EB-CD43-4E1F-883C-1D42D1CD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5C49D-9BD9-4F53-97F1-79AFE47D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B0F8A-322A-4D06-99CB-3E6C3C24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CD00E-479A-460A-8182-AEEEEF7D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25458-BD9E-462B-8829-9E564424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B1AF36-6C9A-4244-B4DA-F3E18319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63C67-B378-41FA-9A91-266D4936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BA6F7-9454-4F64-8C57-B42184C4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A2726-6BA7-408C-A4C7-93D7AC4B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2CD2-8431-48E9-A794-27657B34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4938F-A8FF-4B94-B962-ED967EAA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58C35-B081-44A8-83D9-890156BA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83307-B8DF-4D0F-8533-A14BEC27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64DCE-ABC9-4641-BDFB-1EFAA6B0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FDADA-DE7C-4ECD-991E-146CFE73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7A653-2FE2-4106-8824-2155106F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477B8-02FD-4D4E-9226-2C8D5DA6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3AD16-438F-43D1-ADAD-008B7FBB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2811B-DCA6-497E-B7AB-4BE4C606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7763B-1C68-411E-964B-34D34954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ACE8-981B-4BD3-809B-F1D6D292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196B4-5946-4C48-B6CE-5257101C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6B8D2-B488-4B83-80D6-CE2A259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F2664-0EDE-4357-A588-94F20962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9E200-036B-4F8A-B1FD-68676D94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48A32-4AB2-4D7E-9549-F9B73682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8728AC-28C7-40EF-A535-7B3E8D4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93C10-CC82-4DDA-B325-BE8A5AC5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C1A52-6C8B-4F88-B60F-5A901DC1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A9050-4B9E-4D3B-A3AC-B571FDE4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C5455-FAD6-4A62-A856-968A2615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6AFE-82D5-48B6-9A1C-F4C166A9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80D74-A792-4D23-AFE3-3B3F0651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02190-4DC5-4DDC-915E-97DAAC1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AC0B0-D718-46DC-8E40-2C7BDBA7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B471D-90CB-4372-809E-A462CDE2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42E7F-617E-45F5-A5FA-B5FE1A60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07FBA-763C-49A6-9337-F3E5E40C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5A2FC-531A-4D3D-8A90-3485BD94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A8021-65CC-4C81-8F5D-5B90CF9A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455096-89A1-448E-B8C6-D470236E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2BA1C3-796F-4296-AC20-FF85743F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B63C-EA88-4E9E-8B40-CE8AE1D0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5CC7F-BFAD-4D21-8147-F697FCBB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7C4F9-B6A7-4750-ADF9-99FACCEE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502875-B06A-414D-847A-5680CE05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6E91C-9DA9-48BE-8039-AF4C6E75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7FED2E-16FD-4195-B0DE-DF4838D5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C67979-B9E4-4C11-9F27-FB60F6A8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E92105-FF89-40D2-B390-A79FE28A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5679C-CC35-4537-95AC-7BFAE8B2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0F3C0-6F65-42AB-B6E5-BAA9AD15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301BB4-EF6F-4BAF-914E-652E0443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5782-7CC7-466A-B0D6-19ABAC48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78C84-CD83-4E26-89FD-7E64183D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B777D0-0351-4E8E-BC7D-26BD5221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7E498-63DD-4CE7-8843-B5DD312E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991A16-65EB-480B-87AC-54EF5EE2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93BACC-0BBA-4938-839E-1F1479C0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0413F-6658-4F10-86FC-859BE8FC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1AB79B-A994-4FC2-8400-B8B04C9C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7BCF32-F474-46ED-B482-495069FD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6BD52-0657-4C87-88FB-6A71329A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C14A18-D4EE-43DC-BDE7-017E803A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F4D-CBD9-4EA8-BCA3-579127F7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23DD-7104-4532-92FE-BC39AC63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00D02-951A-4B5E-8DA1-E0A6ED70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0802FE-6120-4EA4-90FF-26AC5FAB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AA396-28A3-4054-B39B-AC1F97D0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E409F6-615E-4EFE-9879-921B7B5B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D7CA5E-A9DD-4056-9B76-79481758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D13923-FF6E-41D6-ACA3-385E2F13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69AB1A-F507-453A-BD67-21757A88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7DBF1-844A-4DE1-8A43-ECA8655B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EB1CD-F359-4B05-AE20-95AC9104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1F012-6194-4CCF-930E-EFB843B7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0B11-6B4C-4420-A5D7-87B0DAA6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305FB0-0A7A-4435-BB80-24C88DD3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648C7B-14F2-4AE0-B3C9-2A235F7A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45B1C2-C043-49AC-A844-D1075569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BFF10-8009-4CAA-ABAD-990A3EC3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254227-26EF-4024-9D78-931240A6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8A15E-43F8-4E71-BE8C-5995ECCBC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1F5677-F2C7-403B-94B3-AF5B228D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738C8-0205-4798-93F0-E8EB513F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91788-0352-4FCB-BB87-8A150810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C4188D-606B-4317-9228-0241BA4E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5F1F-EA4A-4847-A230-C4AF5BBE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40E93-AA8D-4B77-8F00-163CAC2E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512EA2-43C2-482A-9F51-F2A2EA2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BA5CF-B58D-41F9-826E-B270A9D3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83AFB-354E-4E1A-BF5A-4F93DA3F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4A994-1A21-4774-B9FD-B409E7D8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D41B44-A711-4F77-8747-95922DEB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FCC505-3328-4390-9782-625578F0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7F4313-1ED5-4F6A-A249-4C6F3CC3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BD4AF4-B4A3-4855-973C-32870AC0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C862CB-3101-48FD-B588-4681CD5B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AC4E-07D8-4328-976E-DD7D8334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1BB4CF-26B3-4F43-9608-2EC92B42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C7A193-AEA7-4C84-807D-C87BF351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3CD8E-5854-4BC2-A838-73504BD9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B9A53-8CA2-4F9F-930C-53E997BE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71948-7608-41A3-B30A-E41CAB13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2414A0-21AF-46FE-9CFB-187CEC61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27D61C-B256-4B22-BBDF-E4842FCF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DB89A8-4FF0-4CCD-A43D-F6903EAA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40A62-2F74-44E6-9904-6ED14D0E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35E61A-C867-4748-86B4-251ECD10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02CC-92BA-46E5-8024-717A4D6A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AB6401-151F-456B-BF92-96216C12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5E5B4A-AEAD-4FF6-9050-F2101281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7CB2F-F3FA-4FC5-8924-7EADC21E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7B703F-88E9-4E30-B15A-1A3585A8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4C9464-45B3-480D-B0F1-9B18ABF7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97ED7F-8EFF-4919-A004-DAB85062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0C5F0B-5526-4061-9532-07F949D3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9F1863-4A9B-426E-8E53-F0039711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C791DF-9045-4193-AAA3-8529764D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D87A18-5D2D-4183-9CCD-240B7B97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B699C-055F-47AE-B792-16D6AF41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BCE9A3-96CA-4854-9254-79404E68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8528B6-D493-4D2A-83FD-7B0A3FA1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F73BF1-7F09-45D6-B5E7-9A654968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68CF62-3C7B-48E6-BD9B-48E051C5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E9489F-FB40-4F0D-BAA0-3F991335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57D62E-6F7E-4C6B-8800-1FF993E2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9E50A4-BC76-41F1-A97A-33DA3EEC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F97509-D02C-4DAE-97B6-F99C4F62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C5CB3F-E3F9-4ADB-8396-B9809119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D69101-6474-40A5-8193-44A6FDA9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4CC3E-9358-427F-8389-0097040D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8E5CF-F856-4781-A912-67C7CF02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6DD09E-1192-48F2-B37B-46BE966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345C2C-3DEA-4F2A-81D2-88842834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9A7F6F-7D7F-4EC4-82D7-62A9FF3E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5C2B4B-FD19-41DC-A953-591A7CD9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4DF4CF-00CF-46DD-9B2B-8DD838D4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60484E-CFDE-4F50-9235-47116366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4B628F-C139-4359-B4BB-A8986822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C7CF30-70E4-4D88-9FBF-9B7245FD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1D7BFE-7B94-41D0-BEF6-F5BE283A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A933-C09F-4E1F-ABB5-1AA77A23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41584F-02DF-485A-8420-BA99D343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6C1785-229B-432D-8807-E3C0F731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40D98F-EB5E-48B4-AFCD-D90021FD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89C574-5A37-4B8F-BBB8-5A701404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619569-0EE7-4F62-BBA5-F9FB3FF2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F444D4-015F-403D-9973-45C168C5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286DE3-1169-45C8-8665-30927072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DA68E5-772C-4626-8F82-26AFD60A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1C7894-DAA6-4082-8DAC-FF095254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46D45B-5DCA-4216-BEA2-06EF72E9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A24E8-29E1-4791-9E24-A5270C4D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F23E7E-A542-4EF2-BE7F-75AC6445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914006-86DF-48FC-9247-03808E49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FC2067-AF1F-4394-A297-691160A4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DDD9B3-ACE4-400F-A985-A328A881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45C0D4-76D0-48FC-81CF-31E9094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515849-42C2-4964-9A84-225DE0D9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78C1ED-7C02-4183-946B-60580F62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EFC223-8E4C-4F74-B273-AC3A1292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4B3B5E-BC8E-4462-9D04-200E1635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0ED5BB-080E-4063-8CB4-49229D937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7BA18-1A28-4848-B031-FC425043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E9DAC3-4ED6-40A4-85E8-1E81ECED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1103C7-4B08-4076-9339-161B7CC5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A345B3-40DC-4E54-9BE6-655E1D0A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1A181C-1E6E-402F-A96D-10BCBC74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69A731-F6CD-4862-BA5E-47B3089F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BABBC3-BE97-4492-B7E8-9F57FECF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EE2F98-F9B0-481D-B0E5-95BDAB1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99C23D-2210-48CF-9355-82F1D62F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9EF2A0-49CF-472E-BED6-591B3F94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FE702F-543B-44FB-9B90-6D1151B8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6A2-B700-4E8D-A21C-EFB13049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61CBE-DB8C-4C8C-BD9E-F56C3EA8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9CE2B0-4432-4EA5-AC45-0DB04014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AB49D3-7FCD-408B-9121-040CE450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FFD479-4C7A-4565-A3DA-8E5A332E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0C4996-FE9D-4F42-BD0B-521F7C3F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43DC49-E95D-4F51-ABC7-4FABBD49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1A8BAF-37AF-4E67-B4BA-961DEE05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439848-ED34-4B8E-9AC2-5CD89654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237853-204D-4040-824F-4271727D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ECA3D8-EC6E-4B80-85BA-941E148C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CDE08D-EA38-4AAE-8E30-32B0B128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C3DD8-1DBB-4C0C-AB7D-8056A169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22AC26-0EFE-4298-914B-3F182EFF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23AFBA-A9A4-4FC3-A15B-E1D10462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F5E658-5107-4918-BD7F-DEC789AA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33AD63-C712-4760-A938-EEDC922B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D364C8-4A3A-4486-8459-359E0138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A7C5D1-A86F-46C5-BFD4-3BDE9E59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A1B485-1896-4129-B810-CE9222A9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0E2834-0142-4691-951B-A01079C2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C439A5-6F7C-42B8-A06D-E4549671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84A793-AF2D-4D96-8A47-CF790665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2826F-78CB-4FCC-972B-84D8DD6F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50A12D-D260-43BF-A823-CB18229D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4F7024-BB13-4A92-BE79-852B82AE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3324BE-57AD-44CD-B071-4DB3A4DF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B5E646-2AFD-476C-99F9-7884F5B3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C2AB7E-9136-4BDB-8408-D6A575BA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6B9812-344F-4A3D-97F2-30EC8EF4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B3D94C-7B67-4F5B-9673-03D5B286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574A0D-F302-43C0-BDA7-9E0D36CE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30AB68-E182-485D-B2B6-958EF798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461D3A-6CA7-46AB-A29F-F21D14EC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A3E22-EFC6-4374-87F1-B4604246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636E10-2FC1-4D7E-BA33-B7230B8B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D4E58D-5406-4136-9B0B-092DF75A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5C3A73-C750-459F-BA91-A4CB814B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EBB8B2-49DD-483E-8BD0-EDE79767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4C09C8-7450-409E-96EA-5049F8B0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3A5AA1-95A6-4A82-B361-45A075BD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699CB5-9A98-4C0B-9918-1BA08BE9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106470-697D-49DF-9179-532D03FB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994311-6AAD-40FC-BA32-52B66BB2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C51231-5DDB-4217-90BA-C77D3184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23DD7-3250-4848-9596-780910F4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5DEDAB-786A-4965-ADF0-28DD1BBD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263F4E-D119-4A9C-A139-0CB6016A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46C338-97BF-475E-BBC8-6CED1A3E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18A945-924E-4E4F-9F52-93C81A69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C9F4EA-3886-44A8-BB4F-95E4BB0F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E87435-29D3-4266-93FF-97E284FB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F57DA5-7491-4780-B01E-2AF2B41D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7722F4-29CB-4E2D-84AF-1407B367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BA6756-A976-4F64-BA01-A477A5D0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06005E-2AC4-49E7-9E31-6A6096F8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5396B-DB20-4874-B26C-C520FA85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EBA98C-5E20-4E38-A38C-43CE0284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4E8049-C449-466C-92C9-6432C6C9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14FCB7-A611-4594-A126-8C470484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5F2CC5-2455-4287-A403-AA9CC2EC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5D4760-3643-4E5A-BD90-219FDA65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726C2F-9DD7-4FFA-939F-3F22D4BD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339E16-5D56-4D09-8212-573A4C46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2D06D4-AC7C-4D4D-95D2-9BC41499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E9000C-5C46-4201-9AAB-37D127BA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83801D-484A-4466-8719-F117372B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F9F55-BDCF-485D-93A9-23511666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8F0FDA-8FAA-4279-B3DA-5ECC27CC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AA4CA6-28C5-490A-A9DB-9FCDAEFD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44652F-4915-43AF-9467-C9ADF576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ABCA6F-BAFC-41E2-BC64-AB9B2960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FDAD8E-97C1-4978-A073-E712807B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C4F734-60F0-4534-AD71-EC1B52F7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1324D9-CACE-4976-AC8F-0689E43B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00CEBA-8E4D-46C3-BA69-A2DAC4EA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113C54-7E3A-4B55-94CF-6ACC4F39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6D80F55-544C-48C1-9165-3B233145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10187-0C36-4721-9D2B-FAB74C16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0D6FED-3FE6-4660-96D1-C731857D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1553DF-1BC1-43F3-B2AB-86AB4D96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7362A1-3B29-490B-80E8-CC1C1601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6EF0A-92EC-41C8-92CF-D992F72A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18423-8677-41D0-98D7-168A28A7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B5A-1440-406A-AD61-14FAF45A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4CE8-F58C-4D91-B192-7BD93230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6AB4F-E949-4F6B-9480-B92EC47D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4D04-B7D7-4F32-9A96-F4740444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4BEF-1942-46D4-B88E-18B21F1A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0D048-A3BD-4959-9DF9-1296CB23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15624-091A-4C74-B4BC-C008D0BC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486C7-B143-41D5-8F0D-F7259453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A3BA-8BB8-41FF-A80D-D4AE3160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A7758-4956-4955-AEB9-0E61ABCE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3AEC6-14CE-412C-9C63-3000EBC8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094-DFE8-47D1-BCB1-48E8A4A1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05BD1-3BBD-4BE3-9684-D777AA5F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75B90-48B1-4F6B-8002-51E8B952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BDD75-A0E7-435A-A4CD-DB915007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F7124-4C58-46E0-816C-330BB7E7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525DE-C5A6-4198-BBAA-46F3CC45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CF882-B919-4428-AE42-E9A4A40E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0E2DD-CEA8-4068-B245-DA3EC5D1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9F73A-49F7-4117-AB65-DB0230FA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6DB58-3B9F-4F33-ABAE-44DAAF24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6389B-0FC2-450E-9D8E-689BEB74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43D-BC0C-4A07-A5E5-6317034F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BF2B5-6E69-459F-969B-5FB35BEE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FF774-F90A-498C-AC6E-585B1871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AC64F-038A-43EF-B773-2DCA7F41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0A76E-9AB6-4272-8C13-720A3C1D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53A4A-2C81-4B56-89AD-D2B40D18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51E3C-DF14-44A9-992A-D592CFD9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0A8FE-CAC4-4B5E-9634-26E9C690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B0885-976E-431E-B35B-53F1FD64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EDDBF-1268-4A43-BEF1-31132EC2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961BB-A952-40D6-9993-CE00E254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2DF5-5E69-4DAF-BF97-57832579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CE1D7-8F71-43A3-94B2-A80CF912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AFC46-1A7E-436E-B216-38D52753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DDDF1-1AC2-49A9-971C-155D7B59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77C7F-EDB4-46CB-AA11-1A76D2B4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5D115-595D-431B-8FE3-F85B17CB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9FE7D-F366-4D55-973C-641E8532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813FA-057B-4D7E-8840-4F1C92BA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CA17E-64CD-4C16-9321-121E7F92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3744B-0A52-4CB2-A78C-EB1B681F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9B5AF-4DA0-4C7A-82AE-9E4748D7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69A-63E8-4F7F-818F-88B522E9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46852-856B-45EB-BBB6-EAA724B3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58464-0BC1-435B-81FD-EB43144D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436B2-587A-47EE-97DA-06B73711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AFD26-F22F-4F4F-8CA0-442CA873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2D293-DC05-4614-83CF-1500A516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86D41-347F-4CDF-B146-5F2B00B1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D31D6-CF30-4D6F-9C92-E2AC3964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06A29-5455-4EF7-A426-01B9E827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2BF1C-DC0C-463F-90BD-49B7833E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88486-3A96-468A-9BF1-B278410C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27EA-E8D7-4AC4-86FB-F3EDF716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DF5D7-4B0C-4328-945B-BD740F0B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478F9-4C00-487A-A1A6-7D7AD05C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363CD-0A49-4389-8813-E0BC281F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67B37-4211-433A-876E-1995BE4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5B832-C6A2-496A-8A9F-3FAED97D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F5908-D88B-4E47-97BC-27EA870B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27B3B-B127-432B-8A83-409D8661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2EBE8-39C0-4150-A47B-9E334F21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85029-61C0-41C5-8F15-520355B8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78227-8564-4C07-8688-DF645D5E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0373-3156-40D8-8B6A-509C4315A1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425D-05C7-41EC-B221-E7CD18097C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7A13-E850-42D8-BF6F-196B22CDB2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480E-E131-439B-A7A8-DAC4DBEDD3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4D1E-4EDA-4E02-8F34-0A4B2D6E9B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DFA1-07D8-46C3-8248-BC0E89F8D5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266E-4F94-402A-8184-077827204B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D3EA-4D9A-4C60-809F-2C5A2AE24E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67B8-040E-4033-9F30-B628C53632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FF96-35FC-47F3-B9B6-6A0BF3CAFB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4F28-01F7-49FE-AA41-A7C5D5F0D1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2F91-3C02-4B3A-8FD0-197B2216BA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59A6-CA72-41F9-BD0D-556796B42A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B42A-D710-494C-8922-D41FFA3711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4569-320C-4BBF-9BBB-00370B0F63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0D02-2BEC-4C1A-8387-8E9C2769C2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98BF-9EB4-498E-92D4-CFB92FD918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1DBA-8CBD-4B54-966F-6AD177E171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697A-E25B-45C7-8691-53D23D535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3361-906B-442C-AD92-275ED251ED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FC57-1709-4F74-85F3-A089DA8A97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6E80-B96A-4596-B22B-B3B32754D1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768F-182A-4A30-8322-723096F702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A483-7D93-4491-8816-E156302C18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BD2A-023C-4864-88DA-4EC7279045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458F-1718-4D9B-BA3F-EBC0C82BA3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EA5E-425D-4985-98E1-EF217CC0F1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9EBA-FC55-4332-83D4-03D0638D07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1C86-2FDA-457B-AE98-834B59CC2F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D135-C2BB-4446-95E1-099ECA6B48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2F8E-8D8E-4E0F-90E0-87454696A0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3601-59A7-47BE-B226-294CD77853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7ED8-B365-4317-9DA0-A3C0B8975B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B678-A961-4C63-A79D-61F8E1E8B6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F086-C775-4310-871D-73A7D3F376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4C6F-3523-4436-9CB2-E867C5D9D3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A2BD-FDF8-427F-BFF4-3DD18E2705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6CC9-9501-4445-9E6F-528F739309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EAE5-0DB1-4FBE-9C1D-9DEDAE90FD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7AF4-8898-45DB-B35A-D3469ACC50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A388-B736-4F47-8A2F-8773B32D1A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F141-5F39-4305-884A-156B25292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F9A5-C2B3-4534-88FD-6EB30A4F1C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8BFC-1F24-4830-9CC1-508DE366B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B6CC-3140-4395-8BBF-D936CD9984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0351-3FCE-479B-9B10-62669F8038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A448-7EDE-448F-B37C-32D248526D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BB27-983C-4317-B033-5BCF02C9A7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BEFC-F3BF-4FB3-892D-1ECA3CF69E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E039-DE3C-4EF2-89B8-50825928A6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563920" y="1052640"/>
            <a:ext cx="3381120" cy="56196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79200" y="2395440"/>
            <a:ext cx="8096400" cy="420048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4068720" y="4025880"/>
            <a:ext cx="119376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7"/>
          <p:cNvSpPr/>
          <p:nvPr/>
        </p:nvSpPr>
        <p:spPr>
          <a:xfrm>
            <a:off x="7653240" y="4541760"/>
            <a:ext cx="46368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441360" y="5054760"/>
            <a:ext cx="7603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89"/>
          <p:cNvSpPr/>
          <p:nvPr/>
        </p:nvSpPr>
        <p:spPr>
          <a:xfrm>
            <a:off x="4273560" y="5610240"/>
            <a:ext cx="7603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40990"/>
          <p:cNvSpPr/>
          <p:nvPr/>
        </p:nvSpPr>
        <p:spPr>
          <a:xfrm>
            <a:off x="1509840" y="6122880"/>
            <a:ext cx="7603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图片 140289" descr=""/>
          <p:cNvPicPr/>
          <p:nvPr/>
        </p:nvPicPr>
        <p:blipFill>
          <a:blip r:embed="rId1"/>
          <a:stretch/>
        </p:blipFill>
        <p:spPr>
          <a:xfrm>
            <a:off x="287280" y="949320"/>
            <a:ext cx="8086680" cy="3638520"/>
          </a:xfrm>
          <a:prstGeom prst="rect">
            <a:avLst/>
          </a:prstGeom>
          <a:ln w="0">
            <a:noFill/>
          </a:ln>
        </p:spPr>
      </p:pic>
      <p:sp>
        <p:nvSpPr>
          <p:cNvPr id="1339" name="矩形 140290"/>
          <p:cNvSpPr/>
          <p:nvPr/>
        </p:nvSpPr>
        <p:spPr>
          <a:xfrm>
            <a:off x="7612200" y="31240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0" name="图片 139265" descr=""/>
          <p:cNvPicPr/>
          <p:nvPr/>
        </p:nvPicPr>
        <p:blipFill>
          <a:blip r:embed="rId1"/>
          <a:stretch/>
        </p:blipFill>
        <p:spPr>
          <a:xfrm>
            <a:off x="217440" y="942840"/>
            <a:ext cx="8124840" cy="5276880"/>
          </a:xfrm>
          <a:prstGeom prst="rect">
            <a:avLst/>
          </a:prstGeom>
          <a:ln w="0">
            <a:noFill/>
          </a:ln>
        </p:spPr>
      </p:pic>
      <p:sp>
        <p:nvSpPr>
          <p:cNvPr id="1341" name="矩形 139266"/>
          <p:cNvSpPr/>
          <p:nvPr/>
        </p:nvSpPr>
        <p:spPr>
          <a:xfrm>
            <a:off x="7551720" y="10080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39267"/>
          <p:cNvSpPr/>
          <p:nvPr/>
        </p:nvSpPr>
        <p:spPr>
          <a:xfrm>
            <a:off x="5003640" y="42130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39268"/>
          <p:cNvSpPr/>
          <p:nvPr/>
        </p:nvSpPr>
        <p:spPr>
          <a:xfrm>
            <a:off x="4726080" y="4748040"/>
            <a:ext cx="8017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39269"/>
          <p:cNvSpPr/>
          <p:nvPr/>
        </p:nvSpPr>
        <p:spPr>
          <a:xfrm>
            <a:off x="6637320" y="5292720"/>
            <a:ext cx="16336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70"/>
          <p:cNvSpPr/>
          <p:nvPr/>
        </p:nvSpPr>
        <p:spPr>
          <a:xfrm>
            <a:off x="739800" y="5796000"/>
            <a:ext cx="801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138241" descr=""/>
          <p:cNvPicPr/>
          <p:nvPr/>
        </p:nvPicPr>
        <p:blipFill>
          <a:blip r:embed="rId1"/>
          <a:stretch/>
        </p:blipFill>
        <p:spPr>
          <a:xfrm>
            <a:off x="274680" y="809640"/>
            <a:ext cx="8086680" cy="5238720"/>
          </a:xfrm>
          <a:prstGeom prst="rect">
            <a:avLst/>
          </a:prstGeom>
          <a:ln w="0">
            <a:noFill/>
          </a:ln>
        </p:spPr>
      </p:pic>
      <p:sp>
        <p:nvSpPr>
          <p:cNvPr id="1347" name="矩形 138242"/>
          <p:cNvSpPr/>
          <p:nvPr/>
        </p:nvSpPr>
        <p:spPr>
          <a:xfrm>
            <a:off x="1243080" y="2465280"/>
            <a:ext cx="318600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8243"/>
          <p:cNvSpPr/>
          <p:nvPr/>
        </p:nvSpPr>
        <p:spPr>
          <a:xfrm>
            <a:off x="1089000" y="3513240"/>
            <a:ext cx="318600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8244"/>
          <p:cNvSpPr/>
          <p:nvPr/>
        </p:nvSpPr>
        <p:spPr>
          <a:xfrm>
            <a:off x="1058760" y="4551480"/>
            <a:ext cx="318636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8245"/>
          <p:cNvSpPr/>
          <p:nvPr/>
        </p:nvSpPr>
        <p:spPr>
          <a:xfrm>
            <a:off x="1109520" y="5732640"/>
            <a:ext cx="318636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图片 137217" descr=""/>
          <p:cNvPicPr/>
          <p:nvPr/>
        </p:nvPicPr>
        <p:blipFill>
          <a:blip r:embed="rId1"/>
          <a:stretch/>
        </p:blipFill>
        <p:spPr>
          <a:xfrm>
            <a:off x="325440" y="941400"/>
            <a:ext cx="8163000" cy="416232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137218" descr=""/>
          <p:cNvPicPr/>
          <p:nvPr/>
        </p:nvPicPr>
        <p:blipFill>
          <a:blip r:embed="rId2"/>
          <a:stretch/>
        </p:blipFill>
        <p:spPr>
          <a:xfrm>
            <a:off x="868320" y="5268960"/>
            <a:ext cx="5172120" cy="409680"/>
          </a:xfrm>
          <a:prstGeom prst="rect">
            <a:avLst/>
          </a:prstGeom>
          <a:ln w="0">
            <a:noFill/>
          </a:ln>
        </p:spPr>
      </p:pic>
      <p:sp>
        <p:nvSpPr>
          <p:cNvPr id="1353" name="矩形 137219"/>
          <p:cNvSpPr/>
          <p:nvPr/>
        </p:nvSpPr>
        <p:spPr>
          <a:xfrm>
            <a:off x="7756560" y="2106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7220"/>
          <p:cNvSpPr/>
          <p:nvPr/>
        </p:nvSpPr>
        <p:spPr>
          <a:xfrm>
            <a:off x="7705800" y="422280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5" name="图片 136193" descr=""/>
          <p:cNvPicPr/>
          <p:nvPr/>
        </p:nvPicPr>
        <p:blipFill>
          <a:blip r:embed="rId1"/>
          <a:stretch/>
        </p:blipFill>
        <p:spPr>
          <a:xfrm>
            <a:off x="212760" y="1020600"/>
            <a:ext cx="5924520" cy="37152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136194" descr=""/>
          <p:cNvPicPr/>
          <p:nvPr/>
        </p:nvPicPr>
        <p:blipFill>
          <a:blip r:embed="rId2"/>
          <a:stretch/>
        </p:blipFill>
        <p:spPr>
          <a:xfrm>
            <a:off x="119160" y="1525680"/>
            <a:ext cx="8143920" cy="3171600"/>
          </a:xfrm>
          <a:prstGeom prst="rect">
            <a:avLst/>
          </a:prstGeom>
          <a:ln w="0">
            <a:noFill/>
          </a:ln>
        </p:spPr>
      </p:pic>
      <p:sp>
        <p:nvSpPr>
          <p:cNvPr id="1357" name="矩形 136195"/>
          <p:cNvSpPr/>
          <p:nvPr/>
        </p:nvSpPr>
        <p:spPr>
          <a:xfrm>
            <a:off x="7283520" y="2104920"/>
            <a:ext cx="93492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6196"/>
          <p:cNvSpPr/>
          <p:nvPr/>
        </p:nvSpPr>
        <p:spPr>
          <a:xfrm>
            <a:off x="574560" y="2649600"/>
            <a:ext cx="70956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6197"/>
          <p:cNvSpPr/>
          <p:nvPr/>
        </p:nvSpPr>
        <p:spPr>
          <a:xfrm>
            <a:off x="3944880" y="2629080"/>
            <a:ext cx="218916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6198"/>
          <p:cNvSpPr/>
          <p:nvPr/>
        </p:nvSpPr>
        <p:spPr>
          <a:xfrm>
            <a:off x="5013360" y="3173400"/>
            <a:ext cx="1438200" cy="33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6199"/>
          <p:cNvSpPr/>
          <p:nvPr/>
        </p:nvSpPr>
        <p:spPr>
          <a:xfrm>
            <a:off x="4664160" y="3706920"/>
            <a:ext cx="93492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6200"/>
          <p:cNvSpPr/>
          <p:nvPr/>
        </p:nvSpPr>
        <p:spPr>
          <a:xfrm>
            <a:off x="5311800" y="4241880"/>
            <a:ext cx="1171440" cy="33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图片 135169" descr=""/>
          <p:cNvPicPr/>
          <p:nvPr/>
        </p:nvPicPr>
        <p:blipFill>
          <a:blip r:embed="rId1"/>
          <a:stretch/>
        </p:blipFill>
        <p:spPr>
          <a:xfrm>
            <a:off x="209520" y="789120"/>
            <a:ext cx="5981760" cy="5686200"/>
          </a:xfrm>
          <a:prstGeom prst="rect">
            <a:avLst/>
          </a:prstGeom>
          <a:ln w="0">
            <a:noFill/>
          </a:ln>
        </p:spPr>
      </p:pic>
      <p:sp>
        <p:nvSpPr>
          <p:cNvPr id="1364" name="矩形 135170"/>
          <p:cNvSpPr/>
          <p:nvPr/>
        </p:nvSpPr>
        <p:spPr>
          <a:xfrm>
            <a:off x="852480" y="1859040"/>
            <a:ext cx="17254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5171"/>
          <p:cNvSpPr/>
          <p:nvPr/>
        </p:nvSpPr>
        <p:spPr>
          <a:xfrm>
            <a:off x="770040" y="3924360"/>
            <a:ext cx="17254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5172"/>
          <p:cNvSpPr/>
          <p:nvPr/>
        </p:nvSpPr>
        <p:spPr>
          <a:xfrm>
            <a:off x="717480" y="6072120"/>
            <a:ext cx="281484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4145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5267520" cy="318132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4146"/>
          <p:cNvSpPr/>
          <p:nvPr/>
        </p:nvSpPr>
        <p:spPr>
          <a:xfrm>
            <a:off x="893880" y="1407960"/>
            <a:ext cx="30528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4147"/>
          <p:cNvSpPr/>
          <p:nvPr/>
        </p:nvSpPr>
        <p:spPr>
          <a:xfrm>
            <a:off x="730080" y="3575160"/>
            <a:ext cx="30528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图片 133121" descr=""/>
          <p:cNvPicPr/>
          <p:nvPr/>
        </p:nvPicPr>
        <p:blipFill>
          <a:blip r:embed="rId1"/>
          <a:stretch/>
        </p:blipFill>
        <p:spPr>
          <a:xfrm>
            <a:off x="203040" y="912960"/>
            <a:ext cx="8153640" cy="5362560"/>
          </a:xfrm>
          <a:prstGeom prst="rect">
            <a:avLst/>
          </a:prstGeom>
          <a:ln w="0">
            <a:noFill/>
          </a:ln>
        </p:spPr>
      </p:pic>
      <p:sp>
        <p:nvSpPr>
          <p:cNvPr id="1371" name="矩形 133122"/>
          <p:cNvSpPr/>
          <p:nvPr/>
        </p:nvSpPr>
        <p:spPr>
          <a:xfrm>
            <a:off x="852480" y="5219640"/>
            <a:ext cx="597996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3123"/>
          <p:cNvSpPr/>
          <p:nvPr/>
        </p:nvSpPr>
        <p:spPr>
          <a:xfrm>
            <a:off x="781200" y="5784840"/>
            <a:ext cx="5979960" cy="4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9:26:44Z</dcterms:modified>
  <cp:revision>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